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AAB9-DB07-4059-A966-60F66B2E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BBB8-6B28-4EF4-ABE4-4B98C1A7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446-8F0A-4E4B-B66A-C5C28D0A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5606-3A3D-47B6-A8C6-19F74C49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39FC-AA50-4C15-9037-DC00136F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3196-0910-49FC-94EB-7774C555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D330-FF36-48A9-BF20-EEDBCEBF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03A3-8234-4122-AFA7-2C80B43C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90DD-6057-411A-B4BA-03E996C9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DCBD-9C75-4912-9E30-0806ABED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CDDB-EA8D-45B3-8B55-AE8A4981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F5AC-15D8-45FF-B901-AAA3442C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EE6E-1FA1-430C-9C7A-712EEB83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984E-1589-483C-B5AE-A8E489C0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CF71-4E87-431B-B506-26C4DB34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A382-89A1-4FB8-ABE8-2305529D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ECD4-DB5D-4514-981D-E2F88C9C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235E-F477-464E-8719-89F3C86C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A557-A2C0-4042-83DF-C6E2C3EF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7A0-3714-4519-8163-ADB81FF3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002-AD24-42DC-8615-84EE419D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0F72-28C6-4C4C-906A-FDDD2B28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0CA3-CDD9-48C2-A894-B7265FDD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3225-E4E2-4029-AB16-0A1B647A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974A-66B3-4BA1-955B-500C2FB0716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8E35-76AF-4ADB-80DD-6C5F44961AC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Present Perfect Ten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Настоящее совершенное врем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рица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916360" y="3141720"/>
            <a:ext cx="115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54764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211640" y="3141720"/>
            <a:ext cx="23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97164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248436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no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379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381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казатели времен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u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ready (ye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ntly (latel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wee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mon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ye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mor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eve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d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утствие показателя времен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личай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38080" y="2362320"/>
          <a:ext cx="7693200" cy="288432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 Perfec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st Simpl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завершилось в прошлом, но имеет отношение к настоящему момент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завершилось, результат не важен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hav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oday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sterday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личай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2362320"/>
          <a:ext cx="7693200" cy="288432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 Perfec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 Continuou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завершилось в прошлом, но имеет отношение к настоящему момент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все еще длится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hav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oday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m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ing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now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ьте на вопрос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обознач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 Дайте пример употребл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образуется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строится общий вопрос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кажите показатели времени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ем отличаются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st Simple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Обозначает действие, которое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завершилось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в прошлом, но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меет отношение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к настоящему моменту. Результат этого действия налицо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.g.: Mum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has cook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upp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ма приготовила ужин (результат – ужин готов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разов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842920" y="2565000"/>
            <a:ext cx="4824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33cc"/>
                </a:solidFill>
                <a:latin typeface="Arial"/>
              </a:rPr>
              <a:t>Have/has</a:t>
            </a:r>
            <a:r>
              <a:rPr b="0" lang="en-US" sz="5000" spc="-1" strike="noStrike">
                <a:solidFill>
                  <a:srgbClr val="003366"/>
                </a:solidFill>
                <a:latin typeface="Arial"/>
              </a:rPr>
              <a:t> + </a:t>
            </a:r>
            <a:r>
              <a:rPr b="0" lang="en-US" sz="50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0" lang="en-US" sz="5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55640" y="3789360"/>
            <a:ext cx="61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have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answered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the question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755640" y="4508640"/>
            <a:ext cx="61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John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has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visited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the USA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разов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066920" y="2349360"/>
            <a:ext cx="115236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0" lang="en-US" sz="5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 rot="19312200">
            <a:off x="3924000" y="3212640"/>
            <a:ext cx="325440" cy="206640"/>
          </a:xfrm>
          <a:prstGeom prst="leftArrow">
            <a:avLst>
              <a:gd name="adj1" fmla="val 50000"/>
              <a:gd name="adj2" fmla="val 39373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908000" y="350028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Правильны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508720" y="3500280"/>
            <a:ext cx="21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Неправильны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13500000">
            <a:off x="5017320" y="3201120"/>
            <a:ext cx="325440" cy="206640"/>
          </a:xfrm>
          <a:prstGeom prst="leftArrow">
            <a:avLst>
              <a:gd name="adj1" fmla="val 50000"/>
              <a:gd name="adj2" fmla="val 39373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765440" y="4005360"/>
            <a:ext cx="79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o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2268360" y="4005360"/>
            <a:ext cx="129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answer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3349800" y="4005360"/>
            <a:ext cx="72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ed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364000" y="4005360"/>
            <a:ext cx="273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ee – saw –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see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щи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1403280" y="3141720"/>
            <a:ext cx="619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 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2340000" y="3141720"/>
            <a:ext cx="86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7236000" y="3141720"/>
            <a:ext cx="43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10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пециальны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556000" y="3141720"/>
            <a:ext cx="388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 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49236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443640" y="314172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300720" y="314172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3366"/>
                </a:solidFill>
                <a:uFillTx/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755640" y="3141720"/>
            <a:ext cx="93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Wha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14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прос к подлежащему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556000" y="3141720"/>
            <a:ext cx="388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49236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8317080" y="3141720"/>
            <a:ext cx="43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300720" y="314172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755640" y="3141720"/>
            <a:ext cx="93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Who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70036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3366"/>
                </a:solidFill>
                <a:uFillTx/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20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льтернативны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556000" y="3213000"/>
            <a:ext cx="208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908000" y="321300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8459640" y="321300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500720" y="3213000"/>
            <a:ext cx="216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403280" y="321300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516720" y="3213000"/>
            <a:ext cx="22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cccc"/>
                </a:solidFill>
                <a:latin typeface="Arial"/>
              </a:rPr>
              <a:t>or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had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dinner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45663E-006 L -0.03402 -0.05667 C -0.04097 -0.06986 -0.05173 -0.07633 -0.06267 -0.07633 C -0.07517 -0.07633 -0.08541 -0.06986 -0.09236 -0.05667 L -0.12604 -2.45663E-006 E">
                                      <p:cBhvr>
                                        <p:cTn id="260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делительны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908000" y="3213000"/>
            <a:ext cx="208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260360" y="321300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7451640" y="321300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852720" y="321300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755640" y="321300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5867280" y="3213000"/>
            <a:ext cx="172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, hasn’t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268360" y="4005360"/>
            <a:ext cx="100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260360" y="4005360"/>
            <a:ext cx="122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n’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6443640" y="400536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3132000" y="400536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755640" y="400536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5148360" y="4005360"/>
            <a:ext cx="172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, has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7:43:12Z</dcterms:created>
  <dc:creator>Люда</dc:creator>
  <dc:description/>
  <dc:language>en-US</dc:language>
  <cp:lastModifiedBy>Кошелев А.В.</cp:lastModifiedBy>
  <dcterms:modified xsi:type="dcterms:W3CDTF">2009-09-23T03:54:37Z</dcterms:modified>
  <cp:revision>18</cp:revision>
  <dc:subject/>
  <dc:title>The Present Perfect Tense</dc:title>
</cp:coreProperties>
</file>